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F2D-769A-4A87-B6C5-505A4F00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5F3-7C5E-4FF0-BF69-48F57CA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F9D-B050-43FA-9533-FAAFE3EC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253-CB2F-442C-85DA-D52A90F6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A2B-FF7E-4DA8-8381-BBDB9A5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4C3-3E30-48D8-B084-027F93B8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E65-1002-417E-95A3-BD806E77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E23-C147-4BD8-9F7A-D1210795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B17-34F5-409F-BF73-312C4AB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44A-36CE-4DF7-AA6B-6A49F40C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377-F7CB-4879-8C67-17380686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C3F-110D-4751-90EF-CF773D1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B3DD-8088-49BC-AD13-1C24966C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-kalinovskaya@yandex.by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179280" y="4941720"/>
            <a:ext cx="871380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Калиновская И.Н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к.т.н., доцент кафедры экономики и электронного бизне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Витебского государственного технологического университета</a:t>
            </a:r>
            <a:r>
              <a:rPr b="1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Ванкевич Е.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д.э.н., профессор кафедры экономики и электронного бизне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Calibri Light"/>
                <a:ea typeface="Calibri Light"/>
              </a:rPr>
              <a:t>Витебского государственного технологического универс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13192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alibri Light"/>
              </a:rPr>
              <a:t>ЦИФРОВЫЕ ТЕХНОЛОГИИ В НОРМИРОВАНИИ ТРУДА: КОМПЕТЕНТНОСТНЫЙ ПОДХОД К ОПРЕДЕЛЕНИЮ ТРУДОЗАТРАТ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en-US" sz="2000" spc="-1" strike="noStrike">
                <a:solidFill>
                  <a:srgbClr val="3333cc"/>
                </a:solidFill>
                <a:latin typeface="Calibri Light"/>
              </a:rPr>
              <a:t>СПЕЦИАЛИСТОВ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6" descr=""/>
          <p:cNvPicPr/>
          <p:nvPr/>
        </p:nvPicPr>
        <p:blipFill>
          <a:blip r:embed="rId1"/>
          <a:stretch/>
        </p:blipFill>
        <p:spPr>
          <a:xfrm>
            <a:off x="6156360" y="189000"/>
            <a:ext cx="2774880" cy="979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74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662360" cy="475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10526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Ядро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компетенций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021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46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17638" r="0" b="0"/>
          <a:stretch/>
        </p:blipFill>
        <p:spPr>
          <a:xfrm>
            <a:off x="1116000" y="1125360"/>
            <a:ext cx="7010280" cy="404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2360" y="5516640"/>
            <a:ext cx="6010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Эволюция структуры компетенци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5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Эволюция структуры компетенций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7991640" cy="241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1557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Определение трудозатрат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-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14942" r="0" b="0"/>
          <a:stretch/>
        </p:blipFill>
        <p:spPr>
          <a:xfrm>
            <a:off x="611280" y="1557360"/>
            <a:ext cx="7867440" cy="368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5589720"/>
            <a:ext cx="78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015 год – 144 вакан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021 год – 677 вакан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025 год – 606 вакансий на 15.09.2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Региональные изменения: деконцентрация рынка труд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-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76509" r="50201" b="0"/>
          <a:stretch/>
        </p:blipFill>
        <p:spPr>
          <a:xfrm>
            <a:off x="2556000" y="2349360"/>
            <a:ext cx="3960720" cy="1305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49780" t="76509" r="0" b="0"/>
          <a:stretch/>
        </p:blipFill>
        <p:spPr>
          <a:xfrm>
            <a:off x="2556000" y="3933720"/>
            <a:ext cx="3994200" cy="1305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125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гноз востребованных компетен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-специалистов к 2030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"/>
          <p:cNvPicPr/>
          <p:nvPr/>
        </p:nvPicPr>
        <p:blipFill>
          <a:blip r:embed="rId3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562880" cy="3810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765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арадокс автоматизации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1052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Главный вызов профессии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 в 2025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0102" t="13856" r="27970" b="46869"/>
          <a:stretch/>
        </p:blipFill>
        <p:spPr>
          <a:xfrm>
            <a:off x="3203640" y="170028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4437000"/>
            <a:ext cx="792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йти оптимальный баланс между ИИ-решениями и человеческой эксперти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ИИ должен усиливать, а не заменять человечески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46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189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Основные результат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765000"/>
            <a:ext cx="7272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1. Скорость цифровой трансформации превзошла все прогнозы: с 2021 по 2025 гг. отмечено пятикратное увеличение количества организаций, внедривших ИИ-инструменты в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деятельность и планирующих использовать ИИ для прогно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2. Установлен парадокс автоматизации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: внедрение ИИ в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-процессы увеличило спрос на данных специалистов, профессия трансформировалась от административной к аналитико-стратегичес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3. Выявлена фундаментальная трансформация ядра компетенций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пециалистов. Структура ядра 2021 г. отражала преобладание исполнительских функций и фокус на администрировании кадровых процессов. К 2025 г. произошел переход к Т-модели компетенций, характеризующейся сочетанием широты охвата и глубины специ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4. Отмечена критическая важность баланса между технологиями и человеко-центричным подходом, что определяет новую парадигму развития профессии в эпоху цифровой транс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7280" y="90792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Ключевой вывод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421000"/>
            <a:ext cx="813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-специалисты не исчезают, они эволюциониру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т администраторов к стратег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т исполнителей к аналитик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т реактивных действий к проактивному управ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удущим комп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464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341360"/>
            <a:ext cx="784836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alibri Light"/>
              </a:rPr>
              <a:t>Методология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3333cc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Calibri Light"/>
              </a:rPr>
              <a:t>Семантический анализ текстов отчетов крупных белорусских и европейских компаний 2024-2025 гг. с применением технологий искусственного интеллекта с целью выявления ключевых факторов влияния цифровой трансформации на деятельность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R</a:t>
            </a:r>
            <a:r>
              <a:rPr b="0" lang="ru-RU" sz="2000" spc="-1" strike="noStrike">
                <a:solidFill>
                  <a:srgbClr val="3333cc"/>
                </a:solidFill>
                <a:latin typeface="Calibri Light"/>
              </a:rPr>
              <a:t>-специалис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3333cc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Calibri Light"/>
              </a:rPr>
              <a:t>Применение ПО на базе искусственного интеллекта и больших языковых моделей для анализа данных рынка труда Республики Беларусь в разрезе компетенций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0" lang="ru-RU" sz="2000" spc="-1" strike="noStrike">
                <a:solidFill>
                  <a:srgbClr val="3333cc"/>
                </a:solidFill>
                <a:latin typeface="Calibri Light"/>
              </a:rPr>
              <a:t>специа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46480" cy="828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8"/>
          <p:cNvSpPr/>
          <p:nvPr/>
        </p:nvSpPr>
        <p:spPr>
          <a:xfrm>
            <a:off x="2531160" y="249228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50c3"/>
                </a:solidFill>
                <a:latin typeface="Calibri Light"/>
              </a:rPr>
              <a:t>СПАСИБО ЗА ВНИМАНИЕ </a:t>
            </a:r>
            <a:r>
              <a:rPr b="1" lang="en-US" sz="2400" spc="-1" strike="noStrike">
                <a:solidFill>
                  <a:srgbClr val="0950c3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7"/>
          <p:cNvSpPr/>
          <p:nvPr/>
        </p:nvSpPr>
        <p:spPr>
          <a:xfrm>
            <a:off x="352440" y="4137840"/>
            <a:ext cx="6689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Контактная информ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Калиновская Ирина Николаевна</a:t>
            </a:r>
            <a:br>
              <a:rPr sz="1600"/>
            </a:br>
            <a:r>
              <a:rPr b="0" lang="ru-RU" sz="1600" spc="-1" strike="noStrike">
                <a:solidFill>
                  <a:srgbClr val="3333cc"/>
                </a:solidFill>
                <a:latin typeface="Calibri Light"/>
              </a:rPr>
              <a:t>к.т.н., доцент кафедры экономики и электронного бизнеса</a:t>
            </a:r>
            <a:br>
              <a:rPr sz="1600"/>
            </a:br>
            <a:r>
              <a:rPr b="0" lang="ru-RU" sz="1600" spc="-1" strike="noStrike">
                <a:solidFill>
                  <a:srgbClr val="3333cc"/>
                </a:solidFill>
                <a:latin typeface="Calibri Light"/>
              </a:rPr>
              <a:t>Витебский государственный технологически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Email: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-kalinovskaya@yandex.b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Arial"/>
              </a:rPr>
              <a:t>Телефон: +375(29) 515-92-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6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32000" y="2492280"/>
            <a:ext cx="6581520" cy="287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1268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Масштаб цифровой транс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индус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5486400" cy="4400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98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Масштаб цифровой транс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индус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9079" r="0" b="0"/>
          <a:stretch/>
        </p:blipFill>
        <p:spPr>
          <a:xfrm>
            <a:off x="611280" y="1628640"/>
            <a:ext cx="8029440" cy="50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9079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Эволюция применения ИИ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98288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14752" r="0" b="0"/>
          <a:stretch/>
        </p:blipFill>
        <p:spPr>
          <a:xfrm>
            <a:off x="611280" y="1773360"/>
            <a:ext cx="7972200" cy="374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10526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Автоматизация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6772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4046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Новые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3677" r="0" b="0"/>
          <a:stretch/>
        </p:blipFill>
        <p:spPr>
          <a:xfrm>
            <a:off x="179280" y="981000"/>
            <a:ext cx="8640720" cy="3886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08000" y="12240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950c3"/>
                </a:solidFill>
                <a:latin typeface="Arial"/>
                <a:ea typeface="Times New Roman"/>
              </a:rPr>
              <a:t>Методика автоматизированного анализа данных рынка труда, основанная на применении больших языковых моделей</a:t>
            </a:r>
            <a:r>
              <a:rPr b="1" lang="ru-RU" sz="2000" spc="-1" strike="noStrike">
                <a:solidFill>
                  <a:srgbClr val="0950c3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0920" y="5061960"/>
            <a:ext cx="864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 Light"/>
              </a:rPr>
              <a:t>Техническая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 Light"/>
              </a:rPr>
              <a:t>Автоматический инструмент для сбора данных на языке Pyth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 Light"/>
              </a:rPr>
              <a:t>Многоуровневая система предварительной обработки текст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 Light"/>
              </a:rPr>
              <a:t>Применение больших языковых моделей для извлечения структурированной информ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 Light"/>
              </a:rPr>
              <a:t>Система специальных инструкций для моделей искусственного интелл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 Light"/>
              </a:rPr>
              <a:t>Механизмы многоуровневой провер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 Light"/>
              </a:rPr>
              <a:t>Шаблоны для структурирования извлекаем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056360" cy="6004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189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Т-образная модель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R-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компетенций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2025</a:t>
            </a:r>
            <a:r>
              <a:rPr b="1" lang="ru-RU" sz="2400" spc="-1" strike="noStrike">
                <a:solidFill>
                  <a:srgbClr val="3333cc"/>
                </a:solidFill>
                <a:latin typeface="Calibri Light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9-15T10:46:30Z</dcterms:created>
  <dc:creator>Microsoft Office</dc:creator>
  <dc:description/>
  <dc:language>en-US</dc:language>
  <cp:lastModifiedBy>Microsoft Office</cp:lastModifiedBy>
  <dcterms:modified xsi:type="dcterms:W3CDTF">2025-09-16T19:06:58Z</dcterms:modified>
  <cp:revision>9</cp:revision>
  <dc:subject/>
  <dc:title>Слайд 1</dc:title>
</cp:coreProperties>
</file>